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FE7-98C7-493C-B2A0-699804A5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EA7-A11F-4F11-BC36-3782BF20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3D4-6EF9-44DE-891F-4567F343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CB7-0696-4ADE-9AC2-D5137D15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41BF-813D-4709-8139-DFAA6FE7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8A46-9BFF-431E-A77E-1ACE0B37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A917-7ED2-49C3-B6B5-AD2977B6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482B-83D2-4CF4-9D2C-403080A6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B531-19AB-455A-B0B8-618C2ABA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EFAE-6A74-4668-804F-F0F924E5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2E9A-B18A-4AC7-89EF-193431BD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9FB-E178-4BC9-AABA-4119B6C4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3749-7369-4641-A501-52573CA0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61F7-9AEE-461A-9E10-90F329F3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2E54-0137-45EA-9477-55EF4550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5984-0D01-4CB8-9DFD-EDF8E808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01D4-8C3B-4292-8E90-1E96E8F4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01A-4981-472C-AAC9-00065940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FBD-55B8-4F5F-9C8B-79B83555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72B5-3CC0-493E-804B-F0F6F842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998-ABA8-466A-8A4D-0031247F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3D7C-C69A-4732-9680-75370380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FF5-B747-4762-9CBA-26FF4F79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D56-5F64-47D4-9063-F70C24DD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4BDB-1402-4BBB-BD6C-BDF64E954B4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263A-7093-41EB-8DDE-1862F836317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ra.co.uk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4600"/>
            </a:br>
            <a:r>
              <a:rPr b="1" lang="en-US" sz="46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: The Nature of Research: Research eth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ethical pract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the form write down example of unethical practice and the reasons why you think they are 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ke your Ethics committees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1                  proposal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2                  proposal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3                  proposal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 a name to your group, discuss your proposal and grade it from 1 to 5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5 is very ethical and 1 very uneth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3995640" y="2565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3995640" y="31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3995640" y="3645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Ethical considerations are important throughout the whole process of the resear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Researchers have to weigh up  the possible benefits of their study and the possible harm caused to all parties involv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motional, financial physical, psychological ham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Arial"/>
              </a:rPr>
              <a:t>Ethics committe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Educational Research Association - 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ww.bera.co.u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case description and answer to the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stand importance of ethics in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ility to apply ethic to research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ility to review ethics in other people’s resear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you know what is…….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hic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hical judg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ed con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nym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ence of ha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e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giar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g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 this ethical behaviou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ff"/>
                </a:solidFill>
                <a:latin typeface="Arial"/>
              </a:rPr>
              <a:t>Group 1 read “</a:t>
            </a:r>
            <a:r>
              <a:rPr b="0" i="1" lang="en-US" sz="3000" spc="-1" strike="noStrike">
                <a:solidFill>
                  <a:srgbClr val="ff99ff"/>
                </a:solidFill>
                <a:latin typeface="Arial"/>
              </a:rPr>
              <a:t>Simple leve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Group 2 read</a:t>
            </a:r>
            <a:r>
              <a:rPr b="0" i="1" lang="en-US" sz="3000" spc="-1" strike="noStrike">
                <a:solidFill>
                  <a:srgbClr val="00b050"/>
                </a:solidFill>
                <a:latin typeface="Arial"/>
              </a:rPr>
              <a:t> “ Intermediate leve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Arial"/>
              </a:rPr>
              <a:t>Group 3 read</a:t>
            </a:r>
            <a:r>
              <a:rPr b="0" i="1" lang="en-US" sz="3000" spc="-1" strike="noStrike">
                <a:solidFill>
                  <a:srgbClr val="00b0f0"/>
                </a:solidFill>
                <a:latin typeface="Arial"/>
              </a:rPr>
              <a:t> “ Advanced leve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sk yoursel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How would children feel if no one picks them as friend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Are children sincere in their choice or copy oth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Should this data collection occu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Is this cruel to monkey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Does the end justify the mea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What is the opinion about secret came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What is the opinion about showing violence even to a dol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Should these types of experiments be allow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w you know what is…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99"/>
                </a:solidFill>
                <a:latin typeface="Arial"/>
              </a:rPr>
              <a:t>Ethic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oral principals that control a person’s behavi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0093"/>
                </a:solidFill>
                <a:latin typeface="Arial"/>
              </a:rPr>
              <a:t>Ethical judgmen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orally correct behavi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00"/>
                </a:solidFill>
                <a:latin typeface="Arial"/>
              </a:rPr>
              <a:t>Informed consen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ving consent from particip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Confidentialit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sing information only for the purpose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Anonymit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ot revealing the identity of particip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w you know what is…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ff"/>
                </a:solidFill>
                <a:latin typeface="Arial"/>
              </a:rPr>
              <a:t>Absence of harm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harming particip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Deception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ing dishonest about true intention to collec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Arial"/>
              </a:rPr>
              <a:t>Plagiarism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ying data of others without cons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ff"/>
                </a:solidFill>
                <a:latin typeface="Arial"/>
              </a:rPr>
              <a:t>Storage data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e data for other occasion and purpo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uiding principles for ethical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Respect of participants</a:t>
            </a:r>
            <a:r>
              <a:rPr b="0" lang="en-US" sz="3000" spc="-1" strike="noStrike">
                <a:solidFill>
                  <a:srgbClr val="6600cc"/>
                </a:solidFill>
                <a:latin typeface="Arial"/>
              </a:rPr>
              <a:t> (privacy, culture, personal digni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Respects of the participants’ rights</a:t>
            </a:r>
            <a:r>
              <a:rPr b="0" lang="en-US" sz="3000" spc="-1" strike="noStrike">
                <a:solidFill>
                  <a:srgbClr val="ff99ff"/>
                </a:solidFill>
                <a:latin typeface="Arial"/>
              </a:rPr>
              <a:t> (protection from harm, be fully informed on the purpose of the research and to be listen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Best outcomes</a:t>
            </a:r>
            <a:r>
              <a:rPr b="0" lang="en-US" sz="3000" spc="-1" strike="noStrike">
                <a:solidFill>
                  <a:srgbClr val="d60093"/>
                </a:solidFill>
                <a:latin typeface="Arial"/>
              </a:rPr>
              <a:t> (promote best outcomes/benefits for participan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anning ethical interview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are going to interview grade 7 boys about fighting in the playgrou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what you would say to them to ensure that the interview will be eth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it first without template and than compare it with temp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3:50:00Z</dcterms:created>
  <dc:creator>user</dc:creator>
  <dc:description/>
  <dc:language>en-US</dc:language>
  <cp:lastModifiedBy>t.alnuimi</cp:lastModifiedBy>
  <dcterms:modified xsi:type="dcterms:W3CDTF">2008-08-07T10:42:26Z</dcterms:modified>
  <cp:revision>8</cp:revision>
  <dc:subject/>
  <dc:title>Course: Fundamentals of Research</dc:title>
</cp:coreProperties>
</file>